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460-A82C-4565-9582-B92F49EF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5D8-6426-4FF4-B958-AB987B34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DA1D-DC28-479C-B8AE-7AEEBBCB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667-C678-4AFB-9414-2F5CCE54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7B3D-BAED-49F6-BA7B-5EACA950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32B9-C3F4-4582-99CD-C8011420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FE97-84BE-42D8-895C-27CA1BDC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93C5-776D-4AA0-9108-510AD2F9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3AF2-4274-4B8E-A273-31F484F0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C07C-609B-4BBA-AF88-455D8C0D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6852-F2A2-44B0-9314-B632FCC6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2F1-020E-4A58-91F8-CE0F3C02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3D58-C999-41BD-8BB9-2E3C5947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B2A3-9385-4734-AB66-763E90F7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A181-C0A3-4CF2-A2E7-9DF207A8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AC58-BA2F-4686-9731-ECCF3615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E649-4433-4F8A-A50A-56AD766A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EE1E-8D19-46B0-8227-CB0C93B0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428-E2E5-441B-AAE5-09C4B851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7CD-795C-4936-A7AC-EC887CCD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A93-D1CF-4154-86E7-4D5D36AB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E4E-00C1-4372-A21A-8E442EB5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5A43-FF26-416A-81BB-91A50F1F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469-0B3E-4B00-8FEE-052E59F1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59C4-7A09-4F6D-B53B-76CCABDC5C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DADB-4D3C-4356-BFEF-3004FCCE16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Подбор землеройной техник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подбор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землеройной тех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2131920" y="1316160"/>
            <a:ext cx="543888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51000"/>
            <a:ext cx="8121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выбора эффективных землеройных и транспортных средств с учетом условий производства земляных работ. Модуль обеспечивает формирование комплекта машин и оборудования, необходимого для выполнения земляных работ на строительном участке, подбор и расчет необходимого количества марок техни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омплект машин формируется с учетом заданного вида работ, объемов и характеристик разрабатываемых грунтов. Подбор марок техники осуществляется отдельно по каждому виду техники (экскаваторы, самосвалы, бульдозеры, скреперы и пр.) с учетом характеристик машин комплекта. Расчет потребного количества техники производится исходя из ее эксплуатационной сменной производительности, объема и продолжительности раб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дуль обеспечивает автоматизированное формирование фрагмента пояснительной записки ППР, технологической карты на земляные работы в части подбора землеройной техники и транспортных сред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7960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ввести участок земляных работ, задав основные параметры и перечень разрабатываемых грунтов с их характеристиками, далее для введенного участка работ осуществить подбор техники. Характеристики участка земляных работ можно загрузить из модуля «Разработка котлованов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39960" y="934920"/>
            <a:ext cx="736272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049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участка земляных рабо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58086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вода участка земляных работ необходимо задать его наименование, выбрать вид работ (в соответствии с ГЭСН или прочие работы), задать продолжительность работ, количество смен, продолжительность смены. Далее для участка нужно сформировать перечень разрабатываемых грунтов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812960" y="947880"/>
            <a:ext cx="577224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дбор землеройно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ики для участка рабо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566892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обходимо задать тип работ и конкретную работу (если выбран вид работ по ГЭСН), затем  подобрать требующуюся технику и определить ее количество. Подбор техники для производства земляных работ и определение ее потребного количества производится по следующим категориям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экскаваторы, самосвалы, бульдозеры, скреперы и  проче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911240" y="915840"/>
            <a:ext cx="5761080" cy="455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177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количества экскаватор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572436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асчета количества экскаваторов необходимо определить их эксплуатационную сменную производительность. Она может быть: введена вручную, в т.ч. рассчитана на основании норм времени по ЕНиР; рассчитана на основании технических характеристик выбранного экскавато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638360" y="790560"/>
            <a:ext cx="624852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177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количества самосвал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16040" y="57880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и расчете количества самосвалов учитываются характеристики выбранного экскаватора, грузоподъемность, скорость передвижения, время разгрузки и маневрирования самосва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968480" y="781200"/>
            <a:ext cx="562140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177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количества бульдозер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16040" y="59151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асчета количества бульдозеров  необходимо определить их эксплуатационную сменную производительность. Она может быть: введена вручную, в т.ч. рассчитана на основании норм времени по ЕНиР; рассчитана на основании технических характеристик выбранного бульдозе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1981080" y="774720"/>
            <a:ext cx="562140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63840" y="889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количества скрепер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16040" y="59403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асчета количества скреперов необходимо определить их эксплуатационную сменную производительность. Она может быть: введена вручную, в т.ч. рассчитана на основании норм времени по ЕНиР; рассчитана на основании технических характеристик выбранного скрепе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2336760" y="666720"/>
            <a:ext cx="4998960" cy="5211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10-19T14:07:16Z</dcterms:modified>
  <cp:revision>260</cp:revision>
  <dc:subject/>
  <dc:title>Слайд 1</dc:title>
</cp:coreProperties>
</file>